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4.png" ContentType="image/png"/>
  <Override PartName="/ppt/media/image13.png" ContentType="image/png"/>
  <Override PartName="/ppt/media/image6.jpeg" ContentType="image/jpeg"/>
  <Override PartName="/ppt/media/image1.jpeg" ContentType="image/jpeg"/>
  <Override PartName="/ppt/media/image2.jpeg" ContentType="image/jpeg"/>
  <Override PartName="/ppt/media/camera.wav" ContentType="audio/x-wav"/>
  <Override PartName="/ppt/media/image7.jpeg" ContentType="image/jpeg"/>
  <Override PartName="/ppt/media/image11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309D-41B8-4E34-A392-7EF8F99263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A1A8-C6B0-4970-8AFA-B9694EE61F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02C2-56F1-4451-A387-5E462E1797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BA1-BE54-4AD9-800B-B23FBB8A2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107B-D421-482B-9D85-E095746EA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02C-61C4-4CF3-ACDF-F971C4B1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82E-B353-4C23-8E48-D91923FF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CE9-BBD9-4B74-A8CF-5071BA1F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AF70-E4CA-4875-A038-55F9FB1D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4C81-BD92-48E0-8121-3BFF6183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A562-0AED-4AA6-BED8-3DB344B5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510B-6C3A-43AA-AAA2-B7949A3E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B89E-EC76-41FF-BE55-B56FE7C8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A6C9-E8A8-4663-BC53-296F8A11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87B0-537A-451F-B8B9-87A0A261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73EE-5298-49B0-85E4-5AF368A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DF2-BE8E-4F65-9BF5-744EF36F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0FE4-3D37-4802-A8EA-AECBAF3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55A4-DFE0-4DD8-B88A-C5F4DB4B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05FA-063E-479B-968C-73AC75C6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507D-122E-4913-A729-FA01F4C4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7F41-9307-4F97-B518-E2F6D9FD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487-63D0-48A0-9CE2-F0873086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7A5-AD80-43CE-9599-3BA38BE0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EFE-5259-418C-9C11-4A7453E6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5B3-FEB5-450A-8458-65E57AD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A6C-759F-4F19-9F72-9E838ACE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BDE-46B6-4797-9FBD-B4C0FDE0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4683-4914-46C9-891B-9BB8A14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20EE-D462-47D1-9247-970ABFD2202D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14D9-2227-42A7-A8BE-4ED83D8F4A91}" type="slidenum">
              <a:rPr b="0" lang="ru-RU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1143000"/>
            <a:ext cx="7448400" cy="77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62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0" y="335160"/>
            <a:ext cx="942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 ДОШКО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УЧРЕЖДЕНИЕ  №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2357280" y="600084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395280" y="112536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зик  Алевтина  Николае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1763640" y="242100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Garamond"/>
              </a:rPr>
              <a:t>Образовательная область «Художественное творче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Проект « Уголе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Старший дошкольный возрас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хема 5" descr=""/>
          <p:cNvPicPr/>
          <p:nvPr/>
        </p:nvPicPr>
        <p:blipFill>
          <a:blip r:embed="rId1"/>
          <a:stretch/>
        </p:blipFill>
        <p:spPr>
          <a:xfrm>
            <a:off x="-19080" y="835200"/>
            <a:ext cx="9182160" cy="70596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826920" y="134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Сен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3635280" y="1341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6588000" y="1197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Нояб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АН - ГРАФ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ДАЛЬНИЕ ЦЕЛИ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оказать возможности угля, как изо материала для развития творческих способностей детей старшего дошкольного возраста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Эффективно использовать приемы сотрудничества детей, родителей, воспитателей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оспитывать эстетические чувства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и общении с прекрасным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61e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9" name="Рисунок 3" descr="x_5124d9f6.jpg"/>
          <p:cNvPicPr/>
          <p:nvPr/>
        </p:nvPicPr>
        <p:blipFill>
          <a:blip r:embed="rId1"/>
          <a:stretch/>
        </p:blipFill>
        <p:spPr>
          <a:xfrm>
            <a:off x="1285920" y="214200"/>
            <a:ext cx="7691400" cy="18576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15.jpg"/>
          <p:cNvPicPr/>
          <p:nvPr/>
        </p:nvPicPr>
        <p:blipFill>
          <a:blip r:embed="rId2"/>
          <a:stretch/>
        </p:blipFill>
        <p:spPr>
          <a:xfrm>
            <a:off x="6286680" y="5000760"/>
            <a:ext cx="2190600" cy="163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Ближайшие цели: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2" name="Рисунок 5" descr="00000612.JPG"/>
          <p:cNvPicPr/>
          <p:nvPr/>
        </p:nvPicPr>
        <p:blipFill>
          <a:blip r:embed="rId1"/>
          <a:stretch/>
        </p:blipFill>
        <p:spPr>
          <a:xfrm>
            <a:off x="826920" y="1989000"/>
            <a:ext cx="3414960" cy="4608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447920" y="1125000"/>
            <a:ext cx="7238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едставить уже знакомый материал в новом содержании.                                                               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Способствовать развитию у детей чувства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екрасного, через ознакомление их с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оизведениями  художников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Воспитывать у детей художественно-     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эстетический вкус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омочь воспитателям выстроить систему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работы  с монохромными материалами.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Привлечь родителей к совместной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                       </a:t>
            </a: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деятельности.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61e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 spd="slow">
    <p:blinds dir="horz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0" y="189000"/>
            <a:ext cx="9144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Garamond"/>
                <a:ea typeface="Times New Roman"/>
              </a:rPr>
              <a:t>Педагогические методы и задач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и взрослых с углем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потенциальные изобразительные и выраз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угля, через изучение качеств и свойств  изо материала и экспериментирование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творческие способности, через показ вариантов использования уг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детям в создании ярких и выразительных обра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расширению образователь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одителями и педагог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52_resize.JPG"/>
          <p:cNvPicPr/>
          <p:nvPr/>
        </p:nvPicPr>
        <p:blipFill>
          <a:blip r:embed="rId1"/>
          <a:stretch/>
        </p:blipFill>
        <p:spPr>
          <a:xfrm>
            <a:off x="285840" y="4214880"/>
            <a:ext cx="395928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51_resize.JPG"/>
          <p:cNvPicPr/>
          <p:nvPr/>
        </p:nvPicPr>
        <p:blipFill>
          <a:blip r:embed="rId2"/>
          <a:stretch/>
        </p:blipFill>
        <p:spPr>
          <a:xfrm>
            <a:off x="4546440" y="4214880"/>
            <a:ext cx="4311720" cy="2357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387360"/>
            <a:ext cx="84358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08" name="Содержимое 14" descr="000723.jpg"/>
          <p:cNvPicPr/>
          <p:nvPr/>
        </p:nvPicPr>
        <p:blipFill>
          <a:blip r:embed="rId1"/>
          <a:stretch/>
        </p:blipFill>
        <p:spPr>
          <a:xfrm>
            <a:off x="4427640" y="1125360"/>
            <a:ext cx="4537080" cy="2167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4427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61e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сутствие развернутых методик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аботы с детьми дошкольного возраста с монохромными материалами, в том числе углем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стематизация методического материала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нятость родителей. 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0" name="Рисунок 5" descr="001695.jpg"/>
          <p:cNvPicPr/>
          <p:nvPr/>
        </p:nvPicPr>
        <p:blipFill>
          <a:blip r:embed="rId2"/>
          <a:stretch/>
        </p:blipFill>
        <p:spPr>
          <a:xfrm>
            <a:off x="4265640" y="3500280"/>
            <a:ext cx="4878360" cy="28083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5"/>
          <p:cNvSpPr/>
          <p:nvPr/>
        </p:nvSpPr>
        <p:spPr>
          <a:xfrm>
            <a:off x="1730520" y="404640"/>
            <a:ext cx="47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Garamond"/>
              </a:rPr>
              <a:t>Трудности 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897480" y="1268280"/>
            <a:ext cx="24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Труд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315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aramond"/>
              </a:rPr>
              <a:t>Решения: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47560" y="1052280"/>
            <a:ext cx="72277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Подбор литературы и материалов об угле для рисования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Анализ и систематизация материалов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Создание совместно с родителями мультимедийной  презентации для детей «Волшебный уголек». 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Проведение мастер- класса для воспитателей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на тему: « Рисование углем с детьми старшего дошкольного возраста»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61e"/>
                </a:solidFill>
                <a:latin typeface="Garamond"/>
              </a:rPr>
              <a:t>Организация тематической полки: « В гостях у Уголька»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4f26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transition spd="slow">
    <p:blinds dir="horz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4" descr="risovanie13_clip_image022.jpg"/>
          <p:cNvPicPr/>
          <p:nvPr/>
        </p:nvPicPr>
        <p:blipFill>
          <a:blip r:embed="rId1"/>
          <a:stretch/>
        </p:blipFill>
        <p:spPr>
          <a:xfrm>
            <a:off x="1835280" y="549360"/>
            <a:ext cx="6062400" cy="58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blinds dir="horz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3152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17" name="Содержимое 9" descr="DSCN0995.JPG"/>
          <p:cNvPicPr/>
          <p:nvPr/>
        </p:nvPicPr>
        <p:blipFill>
          <a:blip r:embed="rId1"/>
          <a:stretch/>
        </p:blipFill>
        <p:spPr>
          <a:xfrm>
            <a:off x="871560" y="60480"/>
            <a:ext cx="4687920" cy="665136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8" descr="DSCN1013.JPG"/>
          <p:cNvPicPr/>
          <p:nvPr/>
        </p:nvPicPr>
        <p:blipFill>
          <a:blip r:embed="rId2"/>
          <a:stretch/>
        </p:blipFill>
        <p:spPr>
          <a:xfrm>
            <a:off x="4614840" y="92160"/>
            <a:ext cx="4797360" cy="6746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00816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120" name="Содержимое 15" descr="DSCN1018.JPG"/>
          <p:cNvPicPr/>
          <p:nvPr/>
        </p:nvPicPr>
        <p:blipFill>
          <a:blip r:embed="rId1"/>
          <a:stretch/>
        </p:blipFill>
        <p:spPr>
          <a:xfrm>
            <a:off x="3203640" y="349200"/>
            <a:ext cx="5400720" cy="569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26748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f261e"/>
                </a:solidFill>
                <a:latin typeface="Garamond"/>
              </a:rPr>
              <a:t>.</a:t>
            </a:r>
            <a:endParaRPr b="0" lang="en-US" sz="1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684360" y="189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0" y="1268280"/>
            <a:ext cx="427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В.Потап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зобрази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художественный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спользованием современных материалов в ДОУ». С- П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тво- пресс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йзл Гаррисон «Рисунок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ь»- М.Эксмо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Интер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8:22:55Z</dcterms:created>
  <dc:creator>Hp</dc:creator>
  <dc:description/>
  <dc:language>en-US</dc:language>
  <cp:lastModifiedBy>imc</cp:lastModifiedBy>
  <dcterms:modified xsi:type="dcterms:W3CDTF">2012-11-29T11:33:54Z</dcterms:modified>
  <cp:revision>1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81049</vt:lpwstr>
  </property>
</Properties>
</file>